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едмет: Енглески јези</a:t>
            </a:r>
            <a:r>
              <a:rPr b="0" lang="sr-RS" sz="2400" spc="-1" strike="noStrike">
                <a:solidFill>
                  <a:srgbClr val="000000"/>
                </a:solidFill>
                <a:latin typeface="Arial"/>
              </a:rPr>
              <a:t>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betes Mellitus</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lative or absolute deficiency of insulin results in the disease diabetes mellitus, by far the most common disorder of the endocrine system. The number of individuals with diabetes doubles every 15 years. While insulin, discovered by Banting and Best in 1921, can prevent early death from diabetic coma, insulin treatment does not prevent the chronic, disabling complications of the disease. Statisticians list diabetes mellitus among the top 10 causes of death in the United States, for example, and cite it as the leading cause of blindness and uremia.</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United States, the National Institute of Health has classified diabetes into a number of typ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ogeno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glyc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cellaneo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ochromato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creat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hing’s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to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idosi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diabetes mellit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types of diabetes are known tod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insulin-dependent diabetes mellit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diabetes mellitus type I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econdary diabe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recovery from diabetes without treatment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causes of diabe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diabetes mellitus determin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treatment of diabetes mellit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medications in the form of oral hypoglycemic agents used in treating diabe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refixes IM-, IN-, UN-, and NON-, to form words opposite in meaning:</a:t>
            </a:r>
            <a:endParaRPr b="0" lang="en-US" sz="2400" spc="-1" strike="noStrike">
              <a:solidFill>
                <a:srgbClr val="000000"/>
              </a:solidFill>
              <a:latin typeface="Arial"/>
            </a:endParaRPr>
          </a:p>
        </p:txBody>
      </p:sp>
      <p:sp>
        <p:nvSpPr>
          <p:cNvPr id="48"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ener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mm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pt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a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the missing preposition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has been sick for some time but we hope that he’ll recover...................that diseas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careful with this patient; she is allergic.....................penicilli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ly, she has cut...............sweets and succeeded.................losing weigh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have problem with your heart, you must screen.....................hypertensio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tors should point.......................the importance of early treatment.....................this disorder.</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had a terrible backache yesterday but he also complained.................pain ...................the ches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ought to relax; you are........................stress all the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parts of the sentence in the right order:</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system/the body/against/disease/has/own/its/of/defen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the patient/the risks/of/must/to/no treatment/be help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diseases/spread/some/through/may 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eatment/diabetes/if/on time/usually/is diagnosed/successful/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rvousness/belong/excessive sweating/to/hyperthyroidism/weight loss/and/signs/of/the most commo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hysical skill/can be/relaxation/psychological/which/useful/ overcoming/is/in/str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Шећерна болест се јавља када панкреас престане да производи хормон инсулин или када организам постане неспособан да користи инсулин који је произвео. Глукоза, најважније погонско гориво у организму, може да продре у наше ћелије само ако је инсулин присутан и обавља своју функцију. Без инсулина, глукоза се нагомилава у крвотоку и на крају се појављује у урину, од чега потиче сладак укус који су стари народи приметили. Дебаланс у нивоу шећера такође доводи до појачаног уринирања и жеђи. Шећерна болест такође изазива сужавање ситних крвних судова у целом организму. Изгледа да што је већи ниво шећера у крви, ситни крвни судови се све више сужавају. Када се ово догоди, крвни судови транспортују мање крви и долази до поремећаја у циркулациј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4-07-28T09:01:03Z</dcterms:modified>
  <cp:revision>14</cp:revision>
  <dc:subject/>
  <dc:title>Slide 1</dc:title>
</cp:coreProperties>
</file>